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14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7.png" ContentType="image/png"/>
  <Override PartName="/ppt/media/image12.png" ContentType="image/png"/>
  <Override PartName="/ppt/media/explode.wav" ContentType="audio/x-wav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52A8D-4C2E-491D-97E6-D7531883E14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1711F-8C8A-4397-9F1B-F0A4687EC04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인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내셔널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국가들 사이의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연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인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넷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네트워크들 사이의 연결 상태를 의미할 뿐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E9978-B3A2-4187-97E7-A0FA577EB80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인터넷 상의 데이터 통신 절차와 약속 체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C6ED0-DDB9-4463-8016-7B515C8C779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69868-8D4F-47DD-A8E8-2AC6E286B94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무책임해 보이지만 통제센터를 두지 않는 상황에서 매우 현명한 방식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8C487-1FAB-4228-B40D-9E2E1AE24E7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혼잡한 길보다는 비어있는 회선에 더 많은 양의 패킷을 발송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30876-3C78-4025-939E-6A32EFEF278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40535-D040-42E6-894E-235CCCBB3A8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유럽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ERN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논문을 디지털화하여 간편하게 이용하기 위한 아이디어에서 시작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학술 논문에는 그 논문과 관련된 다양한 참고 문헌이 기록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통 우리는 그 참고문헌이 또 어디있는지 조사하는 데 시간 많이 들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를 일일이 조사하지 않더라도 참고문헌을 바로 클릭하면 그 논문이 나타날 수 있도록 하는 아이디어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것이 인터넷 상에서 구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브라우저를 통해 그림과 음악 등 여러 멀티미디어가 포함된 다양한 서식의 문서를 볼 수 있게 되면서 인터넷이 일반 사용자 사이에 폭발적으로 보급되기 시작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4BF5B-38C7-4728-96B0-5D0B2434D71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8531F-5EED-4F84-9970-97B2C25D385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불과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20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년 전만 해도 정보화 사회라고 하면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어딘가에 거대한 컴퓨터가 있고 그 속에 모든 정보가 저장되어 있어서 사회의 구성원은 누구나 단말기를 통해 그 컴퓨터를 사용할 것이라는 상상을 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러한 소위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“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집중처리 시스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”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하에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세계의 모든 사람의 요구를 충족시키기 위해선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“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몇 대의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마더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컴퓨터가 필요할 것인가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”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와 같은 논의가 진지하게 이루어지기도 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러나 성능은 떨어지지만 싸고 작은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C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가 나타나면서 사람들은 거대 컴퓨터 대신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C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를 사용하게 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러한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“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분산처리 시스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”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에서는 안전성이 증가하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전체적인 경비도 줄게 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72034-8BC9-46B0-8EE3-6516FFF824F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93E65-67D7-4183-A5A1-13B9C51DDC9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spcBef>
                <a:spcPts val="451"/>
              </a:spcBef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서버에 수많은 정보 저장 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클라이언트의 요구로 정보를 주고 받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451"/>
              </a:spcBef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클라이언트 컴퓨터는 일상적인 업무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처리용으로 사용하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정보 관리나 인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혹은 데이터베이스 관리처럼 손이 많이 가는 작업은 고성능의 서버 컴퓨터에게 맡김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 네트워크와 대형컴퓨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단말기 네트워크의 공통점과 차이점은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1B721-C6D0-411A-860F-8428F1A3327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 역시 클라이언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서버 방식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통 전화선을 이용해 호스트 기지에 있는 서버에 접속하여 전자게시판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BBS Bulletin Board System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활성화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신문기사 제공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메일 서버도 제공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물론 서로 다른 회사의 이메일 사이에 메일이 전달되려면 다른 네트워크와의 연결을 필요로 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는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C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통신 이상을 의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메일의 원리는 이따가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어쨌든 이메일을 제외한다면 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C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통신 서비스는 회원들끼리의 폐쇄적인 네트워크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02ECD-9900-4467-8ADA-9DFA4A0E29F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디지털에서 아날로그로 변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MOdulation) &amp;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아날로그에서 디지털로 복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DEModuation)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은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‘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삐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~’, 1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은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‘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카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~’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로 변환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실제로는 더 복잡한 구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통신속도 단위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ps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는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its per second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로 요즘 유무선 공유기에서도 사용되는 단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623CB-768D-4523-881F-2613862DAB9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여러 목적을 위한 네트워크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정보를 어떻게 관리할 것인가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C4F54-81E1-4B43-9E62-6F4E0BAD2F2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C3A5B-0754-49D2-AD63-89BDB2AA81B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40AD-4494-4458-A955-714D01406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758A-C399-4341-B579-F96C88CE0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090D-E3D4-4E82-8D23-C7E863F04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A437-5049-4860-AC14-12688F0D6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6E26-50D9-46CB-92D1-37A3180ED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89D3-193D-4CAB-A5DC-EFE85A6C6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B199-92AA-4220-811D-296DFB13A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8537-1E22-454C-ABF2-8CFE0E3B7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7BB9-C4FB-418D-9AE1-26AD89911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AD9D-EB0A-45A2-A7E3-BBBB3CA4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5B15-03EF-45F4-BF9B-91B655A1F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D9C7-F11D-40B9-9A97-83DA96668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CE710-3FAF-4905-9B00-44EE4FA6E07E}" type="slidenum">
              <a:rPr b="0" lang="ko-KR" sz="1200" spc="-1" strike="noStrike">
                <a:solidFill>
                  <a:srgbClr val="898989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vimeo.com/2696386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rcRect l="3318" t="30111" r="33931" b="4907"/>
          <a:stretch/>
        </p:blipFill>
        <p:spPr>
          <a:xfrm>
            <a:off x="0" y="0"/>
            <a:ext cx="1189656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3068640"/>
            <a:ext cx="4176720" cy="2881440"/>
          </a:xfrm>
          <a:prstGeom prst="rect">
            <a:avLst/>
          </a:prstGeom>
          <a:solidFill>
            <a:srgbClr val="fcd5b5">
              <a:alpha val="78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300" spc="-1" strike="noStrike">
                <a:solidFill>
                  <a:srgbClr val="c00000"/>
                </a:solidFill>
                <a:latin typeface="맑은 고딕"/>
              </a:rPr>
              <a:t>내가 보낸 이메일은 </a:t>
            </a:r>
            <a:br>
              <a:rPr sz="3300"/>
            </a:br>
            <a:r>
              <a:rPr b="1" lang="ko-KR" sz="3300" spc="-1" strike="noStrike">
                <a:solidFill>
                  <a:srgbClr val="c00000"/>
                </a:solidFill>
                <a:latin typeface="맑은 고딕"/>
              </a:rPr>
              <a:t>어떻게 배달이 될까</a:t>
            </a:r>
            <a:r>
              <a:rPr b="1" lang="en-US" sz="3300" spc="-1" strike="noStrike">
                <a:solidFill>
                  <a:srgbClr val="c00000"/>
                </a:solidFill>
                <a:latin typeface="맑은 고딕"/>
              </a:rPr>
              <a:t>?</a:t>
            </a:r>
            <a:br>
              <a:rPr sz="3300"/>
            </a:br>
            <a:r>
              <a:rPr b="0" lang="ko-KR" sz="3300" spc="-1" strike="noStrike">
                <a:solidFill>
                  <a:srgbClr val="c00000"/>
                </a:solidFill>
                <a:latin typeface="맑은 고딕"/>
              </a:rPr>
              <a:t>인터넷의 역사</a:t>
            </a:r>
            <a:br>
              <a:rPr sz="3300"/>
            </a:b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맑은 고딕"/>
              </a:rPr>
              <a:t>2011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년 </a:t>
            </a:r>
            <a:r>
              <a:rPr b="0" lang="en-US" sz="2500" spc="-1" strike="noStrike">
                <a:solidFill>
                  <a:srgbClr val="000000"/>
                </a:solidFill>
                <a:latin typeface="맑은 고딕"/>
              </a:rPr>
              <a:t>11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월 </a:t>
            </a:r>
            <a:r>
              <a:rPr b="0" lang="en-US" sz="2500" spc="-1" strike="noStrike">
                <a:solidFill>
                  <a:srgbClr val="000000"/>
                </a:solidFill>
                <a:latin typeface="맑은 고딕"/>
              </a:rPr>
              <a:t>9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일 정동욱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22160" y="156204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맑은 고딕"/>
              </a:rPr>
              <a:t>인터넷이란</a:t>
            </a: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22160" y="2997360"/>
            <a:ext cx="777240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inter-net (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네트워크의 네크워크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통제센터가 없는 네트워크의 연결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rcRect l="18082" t="31437" r="42790" b="4907"/>
          <a:stretch/>
        </p:blipFill>
        <p:spPr>
          <a:xfrm>
            <a:off x="826920" y="260280"/>
            <a:ext cx="728532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22160" y="156204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맑은 고딕"/>
              </a:rPr>
              <a:t>통제센터 없이 통신이 가능한가</a:t>
            </a: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22160" y="29970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인터넷 기술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: TCP/IP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맑은 고딕"/>
              </a:rPr>
              <a:t>Transmission Control Protocol/Internet Protoco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22160" y="156204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맑은 고딕"/>
              </a:rPr>
              <a:t>가장 간단한 규약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22160" y="29970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정보를 완전히 받았으면 검증 코드 보내주기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rcRect l="2580" t="43372" r="33193" b="15516"/>
          <a:stretch/>
        </p:blipFill>
        <p:spPr>
          <a:xfrm>
            <a:off x="826920" y="3645000"/>
            <a:ext cx="68709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22160" y="156204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맑은 고딕"/>
              </a:rPr>
              <a:t>통제센터가 없는 인터넷상에서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맑은 고딕"/>
              </a:rPr>
              <a:t>나의 이메일은 어떻게 배달될까</a:t>
            </a: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22160" y="2997360"/>
            <a:ext cx="77724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주소에 도착할 때까지 무작위로 전달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..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전달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!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성공하고 나면 거쳐온 노드들이 이를 기억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!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22160" y="156204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맑은 고딕"/>
              </a:rPr>
              <a:t>수많은 사람의 수많은 데이터를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맑은 고딕"/>
              </a:rPr>
              <a:t>어떻게 막힘 없이 전달할까</a:t>
            </a: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22160" y="29970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c00000"/>
                </a:solidFill>
                <a:latin typeface="맑은 고딕"/>
              </a:rPr>
              <a:t>잘게 나누어 여러 길로 배달한 후 조각 모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c00000"/>
                </a:solidFill>
                <a:latin typeface="맑은 고딕"/>
              </a:rPr>
              <a:t>여러 사용자의 배달 명령을 공평하게 분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맑은 고딕"/>
              </a:rPr>
              <a:t>“</a:t>
            </a:r>
            <a:r>
              <a:rPr b="1" lang="ko-KR" sz="2800" spc="-1" strike="noStrike">
                <a:solidFill>
                  <a:srgbClr val="c00000"/>
                </a:solidFill>
                <a:latin typeface="맑은 고딕"/>
              </a:rPr>
              <a:t>패킷 전송 방식</a:t>
            </a:r>
            <a:r>
              <a:rPr b="1" lang="en-US" sz="2800" spc="-1" strike="noStrike">
                <a:solidFill>
                  <a:srgbClr val="c00000"/>
                </a:solidFill>
                <a:latin typeface="맑은 고딕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2160" y="156204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맑은 고딕"/>
              </a:rPr>
              <a:t>일본 도쿄 대학과 미국 캘리포니아 대학을 연결하는 회선의 비용은 누가 부담해야 할까</a:t>
            </a:r>
            <a:r>
              <a:rPr b="1" lang="en-US" sz="3600" spc="-1" strike="noStrike">
                <a:solidFill>
                  <a:srgbClr val="000000"/>
                </a:solidFill>
                <a:latin typeface="맑은 고딕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22160" y="2997000"/>
            <a:ext cx="777240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애매한 문제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. 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인터넷은 공공도로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!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2160" y="156204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맑은 고딕"/>
              </a:rPr>
              <a:t>월드와이드웹</a:t>
            </a: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(WWW)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22160" y="2997000"/>
            <a:ext cx="7772400" cy="194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c00000"/>
                </a:solidFill>
                <a:latin typeface="맑은 고딕"/>
              </a:rPr>
              <a:t>팀 버너스 리의 </a:t>
            </a:r>
            <a:r>
              <a:rPr b="1" lang="en-US" sz="2800" spc="-1" strike="noStrike">
                <a:solidFill>
                  <a:srgbClr val="c00000"/>
                </a:solidFill>
                <a:latin typeface="맑은 고딕"/>
              </a:rPr>
              <a:t>‘</a:t>
            </a:r>
            <a:r>
              <a:rPr b="1" lang="ko-KR" sz="2800" spc="-1" strike="noStrike">
                <a:solidFill>
                  <a:srgbClr val="c00000"/>
                </a:solidFill>
                <a:latin typeface="맑은 고딕"/>
              </a:rPr>
              <a:t>하이퍼텍스트</a:t>
            </a:r>
            <a:r>
              <a:rPr b="1" lang="en-US" sz="2800" spc="-1" strike="noStrike">
                <a:solidFill>
                  <a:srgbClr val="c00000"/>
                </a:solidFill>
                <a:latin typeface="맑은 고딕"/>
              </a:rPr>
              <a:t>’ </a:t>
            </a:r>
            <a:r>
              <a:rPr b="1" lang="en-US" sz="2800" spc="-1" strike="noStrike">
                <a:solidFill>
                  <a:srgbClr val="c00000"/>
                </a:solidFill>
                <a:latin typeface="맑은 고딕"/>
              </a:rPr>
              <a:t>(1989)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c00000"/>
                </a:solidFill>
                <a:latin typeface="맑은 고딕"/>
              </a:rPr>
              <a:t>마크 앤드리슨의 모자이크 브라우저 </a:t>
            </a:r>
            <a:r>
              <a:rPr b="1" lang="en-US" sz="2800" spc="-1" strike="noStrike">
                <a:solidFill>
                  <a:srgbClr val="c00000"/>
                </a:solidFill>
                <a:latin typeface="맑은 고딕"/>
              </a:rPr>
              <a:t>(1993)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c00000"/>
                </a:solidFill>
                <a:latin typeface="맑은 고딕"/>
              </a:rPr>
              <a:t>이후 </a:t>
            </a:r>
            <a:r>
              <a:rPr b="1" lang="en-US" sz="2800" spc="-1" strike="noStrike">
                <a:solidFill>
                  <a:srgbClr val="c00000"/>
                </a:solidFill>
                <a:latin typeface="맑은 고딕"/>
              </a:rPr>
              <a:t>www</a:t>
            </a:r>
            <a:r>
              <a:rPr b="1" lang="ko-KR" sz="2800" spc="-1" strike="noStrike">
                <a:solidFill>
                  <a:srgbClr val="c00000"/>
                </a:solidFill>
                <a:latin typeface="맑은 고딕"/>
              </a:rPr>
              <a:t> </a:t>
            </a:r>
            <a:r>
              <a:rPr b="1" lang="ko-KR" sz="2800" spc="-1" strike="noStrike">
                <a:solidFill>
                  <a:srgbClr val="c00000"/>
                </a:solidFill>
                <a:latin typeface="맑은 고딕"/>
              </a:rPr>
              <a:t>일반 사용자에게 폭발적으로 보급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22160" y="156204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THANK YOU!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22160" y="29970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3000" spc="-1" strike="noStrike">
              <a:solidFill>
                <a:srgbClr val="c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2160" y="156204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2160" y="29970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ff"/>
                </a:solidFill>
                <a:uFillTx/>
                <a:latin typeface="맑은 고딕"/>
                <a:hlinkClick r:id="rId1"/>
              </a:rPr>
              <a:t>http://vimeo.com/2696386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22160" y="7650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맑은 고딕"/>
              </a:rPr>
              <a:t>컴퓨터의 </a:t>
            </a: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50</a:t>
            </a:r>
            <a:r>
              <a:rPr b="1" lang="ko-KR" sz="4000" spc="-1" strike="noStrike">
                <a:solidFill>
                  <a:srgbClr val="000000"/>
                </a:solidFill>
                <a:latin typeface="맑은 고딕"/>
              </a:rPr>
              <a:t>년 역사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22160" y="227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“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집중에서 분산으로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”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rcRect l="8486" t="32756" r="38360" b="4907"/>
          <a:stretch/>
        </p:blipFill>
        <p:spPr>
          <a:xfrm>
            <a:off x="1042920" y="3473280"/>
            <a:ext cx="3683160" cy="2403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2"/>
          <a:srcRect l="5703" t="34083" r="37452" b="6233"/>
          <a:stretch/>
        </p:blipFill>
        <p:spPr>
          <a:xfrm>
            <a:off x="4859280" y="3357720"/>
            <a:ext cx="418932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22160" y="156204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맑은 고딕"/>
              </a:rPr>
              <a:t>네트워크는 왜 만들어졌는가</a:t>
            </a: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22160" y="299700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buClr>
                <a:srgbClr val="c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한 대의 컴퓨터를 여러 사용자가 함께 사용하기 위해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(Time Sharing)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51"/>
              </a:spcBef>
              <a:buClr>
                <a:srgbClr val="c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여러 대의 컴퓨터에 있는 정보를 서로 공유하고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, 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일을 분담하기 위해</a:t>
            </a:r>
            <a:br>
              <a:rPr sz="3000"/>
            </a:b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(peer-to-peer / client-server)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22160" y="-270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맑은 고딕"/>
              </a:rPr>
              <a:t>클라이언트</a:t>
            </a: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-</a:t>
            </a:r>
            <a:r>
              <a:rPr b="1" lang="ko-KR" sz="4000" spc="-1" strike="noStrike">
                <a:solidFill>
                  <a:srgbClr val="000000"/>
                </a:solidFill>
                <a:latin typeface="맑은 고딕"/>
              </a:rPr>
              <a:t>서버 네트워크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22160" y="1484280"/>
            <a:ext cx="7772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3000" spc="-1" strike="noStrike">
              <a:solidFill>
                <a:srgbClr val="c00000"/>
              </a:solidFill>
              <a:latin typeface="맑은 고딕"/>
            </a:endParaRPr>
          </a:p>
        </p:txBody>
      </p:sp>
      <p:pic>
        <p:nvPicPr>
          <p:cNvPr id="60" name="Picture 2" descr="http://ga.webjunction.org/img/img11016.jpg"/>
          <p:cNvPicPr/>
          <p:nvPr/>
        </p:nvPicPr>
        <p:blipFill>
          <a:blip r:embed="rId1"/>
          <a:stretch/>
        </p:blipFill>
        <p:spPr>
          <a:xfrm>
            <a:off x="755640" y="1557360"/>
            <a:ext cx="635148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6" descr="http://postfiles16.naver.net/20100724_31/rpgtown_1279973896067IMYw7_jpg/%ED%95%98%EC%9D%B4%ED%85%94_rpgtown.jpg?type=w3"/>
          <p:cNvPicPr/>
          <p:nvPr/>
        </p:nvPicPr>
        <p:blipFill>
          <a:blip r:embed="rId1"/>
          <a:stretch/>
        </p:blipFill>
        <p:spPr>
          <a:xfrm>
            <a:off x="826920" y="2060640"/>
            <a:ext cx="6750360" cy="3889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http://image.ohmynews.com/down/images/1/patrick21_222680_1%5b304739%5d.jpg"/>
          <p:cNvPicPr/>
          <p:nvPr/>
        </p:nvPicPr>
        <p:blipFill>
          <a:blip r:embed="rId2"/>
          <a:stretch/>
        </p:blipFill>
        <p:spPr>
          <a:xfrm>
            <a:off x="826920" y="2060640"/>
            <a:ext cx="6769440" cy="43639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2160" y="333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‘</a:t>
            </a:r>
            <a:r>
              <a:rPr b="1" lang="ko-KR" sz="4000" spc="-1" strike="noStrike">
                <a:solidFill>
                  <a:srgbClr val="000000"/>
                </a:solidFill>
                <a:latin typeface="맑은 고딕"/>
              </a:rPr>
              <a:t>닫힌 네트워크</a:t>
            </a: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’ </a:t>
            </a: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PC </a:t>
            </a:r>
            <a:r>
              <a:rPr b="1" lang="ko-KR" sz="4000" spc="-1" strike="noStrike">
                <a:solidFill>
                  <a:srgbClr val="000000"/>
                </a:solidFill>
                <a:latin typeface="맑은 고딕"/>
              </a:rPr>
              <a:t>통신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2160" y="29970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3000" spc="-1" strike="noStrike">
              <a:solidFill>
                <a:srgbClr val="c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22160" y="156204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맑은 고딕"/>
              </a:rPr>
              <a:t>전화로 데이터 통신을</a:t>
            </a: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22160" y="29970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MODEM: MOdulation + DEModulation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7" name="Picture 2" descr="http://static.commentcamarche.net/en.kioskea.net/pictures/pc-images-modem.png"/>
          <p:cNvPicPr/>
          <p:nvPr/>
        </p:nvPicPr>
        <p:blipFill>
          <a:blip r:embed="rId1"/>
          <a:stretch/>
        </p:blipFill>
        <p:spPr>
          <a:xfrm>
            <a:off x="539640" y="3500280"/>
            <a:ext cx="5616720" cy="31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rcRect l="17344" t="34083" r="47219" b="6233"/>
          <a:stretch/>
        </p:blipFill>
        <p:spPr>
          <a:xfrm>
            <a:off x="2124000" y="3141720"/>
            <a:ext cx="3456000" cy="3240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2"/>
          <a:srcRect l="17517" t="34083" r="48525" b="6233"/>
          <a:stretch/>
        </p:blipFill>
        <p:spPr>
          <a:xfrm>
            <a:off x="2195640" y="3141720"/>
            <a:ext cx="3313080" cy="3240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22160" y="90792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‘</a:t>
            </a:r>
            <a:r>
              <a:rPr b="1" lang="ko-KR" sz="4000" spc="-1" strike="noStrike">
                <a:solidFill>
                  <a:srgbClr val="000000"/>
                </a:solidFill>
                <a:latin typeface="맑은 고딕"/>
              </a:rPr>
              <a:t>핵의 공포</a:t>
            </a: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1" lang="ko-KR" sz="4000" spc="-1" strike="noStrike">
                <a:solidFill>
                  <a:srgbClr val="000000"/>
                </a:solidFill>
                <a:latin typeface="맑은 고딕"/>
              </a:rPr>
              <a:t>가 인터넷을 낳다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22160" y="234936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핵의 위협 속에서 안전한 네트워크는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rcRect l="7009" t="34083" r="39099" b="8885"/>
          <a:stretch/>
        </p:blipFill>
        <p:spPr>
          <a:xfrm>
            <a:off x="755640" y="907920"/>
            <a:ext cx="6797520" cy="4335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2"/>
          <a:srcRect l="7921" t="34083" r="38929" b="8885"/>
          <a:stretch/>
        </p:blipFill>
        <p:spPr>
          <a:xfrm>
            <a:off x="849240" y="907920"/>
            <a:ext cx="6703920" cy="4335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"/>
          <p:cNvPicPr/>
          <p:nvPr/>
        </p:nvPicPr>
        <p:blipFill>
          <a:blip r:embed="rId3"/>
          <a:srcRect l="7179" t="35415" r="37452" b="6233"/>
          <a:stretch/>
        </p:blipFill>
        <p:spPr>
          <a:xfrm>
            <a:off x="755640" y="1009800"/>
            <a:ext cx="6985080" cy="44352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2160" y="156204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22160" y="544464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한 곳이 파괴되더라도 유지되는 네트워크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ARPANET(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군대와 대학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, 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연구기관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, 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정부 연결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3T04:47:35Z</dcterms:created>
  <dc:creator>zolaist</dc:creator>
  <dc:description/>
  <dc:language>en-US</dc:language>
  <cp:lastModifiedBy>USER</cp:lastModifiedBy>
  <dcterms:modified xsi:type="dcterms:W3CDTF">2011-11-08T23:56:24Z</dcterms:modified>
  <cp:revision>11</cp:revision>
  <dc:subject/>
  <dc:title>컴퓨터는 어떻게  덧셈, 뺄셈을 할까?</dc:title>
</cp:coreProperties>
</file>